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6C9B-FD44-43C7-9CE6-14475BB21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5B06-4C08-40C9-A877-9DD423352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648A7-9404-4ECB-A95A-D68048C4A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A0F5-0352-40C1-BE9D-8023696CE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0B182B-9F36-4B43-9129-D337182FC20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A696F39-75CB-4851-8132-8807F01D15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F8FFB85-532B-445B-8BC3-146431F685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677515A-9D20-4A78-93C6-27FB8F12A9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6D8BC9-1C18-4E5A-8E1E-103B1DDE42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9F17A3-17FB-450D-95F5-019CD73432B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1CA129F-BFFF-461F-A2A0-1E4B77D8E8C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EB8E887-4B82-4D3D-BE18-A8D7A5AEDAD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8C97A70-72FE-42CC-80C0-3B45C5F95D0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800786-A010-486D-8342-C7BEE39D01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233B3-C77B-4327-BE86-F6AD4AF64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D81216-040C-4B5D-8129-CF2D2F073E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E873569-4085-4B49-8F75-0A1DDCDDAB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E988099-C9B8-400D-B4FD-93010204C6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C11D54F-9FEB-4797-9AE5-2FF8FA7619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15EE89-293F-4902-A36A-26EADD6225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3C19AA6-44AC-4885-A787-8896F00485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AA7A65A-4617-4E5D-A5AE-3828CD6F4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C3CF486-C367-4539-A54A-68D3C0021C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082FD08-31BF-41FD-9DB6-7F3883B76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83E43DA-2158-458E-9099-8F06CBA5E5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7AF5B-CB87-4DDC-918A-5338560DF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13659CE-B0C4-4EFB-B566-65C778B18B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B2EC1E-CC97-4DC8-840E-1AC68623F2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1ADF6F-5152-4841-861B-1CC147F00B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26D70E-A4EA-4376-8001-E32880DA11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C754E8-5915-4C19-9195-2236C21FE3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59C7CE-E994-4449-BA97-5CAEF2B59E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654E58-AEFC-454A-8B0B-C2D916396E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84E440-673C-410D-8816-5FEBCA7FF7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84FB91-746B-498A-9EAE-E2BE80C319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41D73A-F931-4866-9778-4223648AC2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E1FED-B2DE-4837-B0D3-68E43ED4E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7DC86E-6BB2-4C6B-AB53-5D129BAB98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5740E7-393C-4A90-BD69-8FF0E9C0C9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A2286F-1296-420A-A116-7C09DE2352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3B3CECF-EDBE-4554-B2E4-BCD2FEE289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A67DD46-6803-4C4A-A038-091732FB65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04A97F5-E517-4F67-A60A-9E47996A7F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5F1AD8D-D7E4-4CB8-BC60-70AC8068A0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67CF409-2965-487D-91EA-56D7ED643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09A1951-F85A-4E32-99DB-C8ACC21BF5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F135505-0BE1-4AA8-BC39-3084D33A5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A7D28-4068-4D4E-9CE7-FC7530D71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97045D-82F6-40A6-B458-9DF60819EB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0C2C5AF-603A-42CC-A174-E95C62C84D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F605115-3AB5-441B-A2B1-D5E43EDA20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CF12F9C-BEEE-434B-BDC1-E6687E605C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383AB48-B9E7-416B-8D30-9A8E8254E2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3DDD9-B0D4-476E-BFD4-2906181D8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78A12-E7B5-4BDB-8F70-5B6415CE8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133F1-4D77-464F-BDC5-B5CAA9936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0BC45-C84D-4848-8D17-0D7D7864F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52972-5576-4B59-8C96-AF2FA6B44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6DCB1-7AE2-4500-A1B0-F9BAFB4EE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09AD4-903F-4C40-A07C-2E02762E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A0BEB-5F2A-4402-A001-625F303D5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7E847-82F4-4F37-A678-716545982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39988-DC73-486D-8062-65DC3D3DD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707B2-3BAE-4DCF-87E7-C32CF709D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9C1AEC-406B-44B8-B75E-700EA8DB4B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C28E2-5A13-4B50-B148-1B10F0F8C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A91FD-FF62-46F8-819B-C9CBBF007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FEBA7-8195-4158-A435-8E051D7F6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5E09A-1050-4AB4-AEA0-129031BA8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F0125-07FE-4BB4-B9E2-D086584E5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58685-8EEF-4F45-BF59-8C21AF0AE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F87F1-4FCA-4E29-8D8B-04A9986EE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577D0-F96D-4222-B39F-ABC58B4C7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0CB6C-09EC-4984-89EB-F53AABA0E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711FA-7A9A-4D35-837A-178E80DAB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1D3847-F933-4199-902B-CE3AB92CE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5AD279-9A7D-4FB1-97D9-42EA07AB5D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DF9B3C9-3011-47C3-A994-88D9996866F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9B675F3-4771-4852-A97B-E95DE9A2E5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0397CD9-0EE5-4821-B2B7-AAC677ECA3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1503-E2C6-4743-BB74-4610FECC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2C347D1-BFA8-4EB8-B03D-62ED268901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EE692BB-4F55-40F6-8A48-9669B23EB4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EE05D26-D870-47C6-8B8F-1EA8C6C6FC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D7A333C-784E-479E-B37B-EAFD098B56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40FCC6A-D48D-4C91-8D55-1C866F6AF3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36722B-58BE-41BD-8BCF-F5AAE6B18D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60E528A-5163-454F-9763-9BD9C968C5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B48B4AA-6192-4AB7-ACDE-A7FE24B6A65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3467B91-85CF-4332-80CC-B0537D3137D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6A69C4-DDC3-4FB9-A976-0D07B5A454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46360-1DD1-4FEB-A66F-8D58F6860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51BEA-D879-4EB1-9DD5-75264958E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C65A6-2204-4415-9C32-6D4884C60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6A07C-FCE3-4A19-B0C1-D6606EE50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356BD-CD77-47C9-A9FF-B2E5EC449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2BFC1B-82D5-4B2A-8246-2B78E6446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85F0C-D6BC-47D3-96AD-F3325824B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09BFE-B407-41A3-8CFF-CA4A48703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DF7D2-4383-41F0-9E0A-782673B07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C26C6-7743-438D-B0FE-2E7D63EDA4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ECAF23-54FF-450B-855F-48E4217E2D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2803-687A-44DC-886E-457887913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F15FE2-8177-40DF-BFDD-DAB3B14466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81EFEB-6A21-452F-B358-556BDCE339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BE362E-90C2-4865-BDC5-23F245E8B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73E2C-5DC8-4D36-BF9A-AF69CAEEE5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CFF958-6FC9-4CF1-8F5A-7BC81B063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F10F37-AED8-4C6C-94F0-41DE18922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AA4EA-45A9-43F7-B26E-2E47AFB57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1B31A-76B5-40DA-BDB2-947B31917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7DBAE-7BC8-4C3A-A5A3-102E0A1E5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F3622-E533-43C5-9784-6195DACBA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61B5-289F-4449-97A5-80C91CDE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F954C6-41FA-4D43-8393-90A8D5EE1B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30FCAB-2B69-4265-99FA-722AB100B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BF0ED9-FE3C-412A-9271-A870B96460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3264EB-FC52-43A1-8205-5AEA052153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A9FB6-DFD7-4CB4-8650-783E297784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C2936-0EEA-46C4-B186-0E75A8FEB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F1CC28-B837-466E-B65D-BF5B456C4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37D85D-CB49-46EC-AF90-F58A6824A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A6250-EB14-44EE-AD91-3596BC258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F3859-4640-4FF4-B2F0-CEBEF6C1F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9DC78-F674-420C-89B2-C2DCEEE3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006835-A3C5-407D-9ED2-31956C53E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D1555-90DE-4D40-A6E2-94D72BC66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67DCDD-B0FA-4F7C-A03C-63107DA833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27702C-3033-409A-85C7-7F2B4AF8E1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9F3436-F08D-4F23-84C3-DCE785971C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4ECE9A-0FB6-4300-A1A1-D52FCBA350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DA57D2-A184-43D2-ACEE-FA15AD8BA7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FD458-5DD3-4C89-8DD3-193F59A42D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6FDA7-471C-4C0E-B09E-2BAFB71474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90ED6-C684-426F-BE14-0C7B11FA7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CA3E-9725-46EF-84B9-208C144C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9F2E4A-EC50-44B7-B7F3-44A3C21707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C351D-3F0A-4B16-8E67-C3056EB34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BF385-D137-4BD4-AC32-2AA8D7DB5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2F145-8BAD-4E69-AC60-2D91FD0F2E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FF1FD7-1BF1-41C1-94DB-A3BFACC03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F496D3-BC11-4140-9FC8-928EDAF0E0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219A10-35C1-4489-9339-5A6AD04E2C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49E9DD4-F92F-4674-BB83-260D05F3248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FAFBDD4-5A7A-4296-AFA7-7A9016F07FE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15EC2B0-69AB-4209-A820-E36314BCCE2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595C-D04E-442B-9142-703BC00D845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DD03-4375-490A-AC4F-E9681DEDDD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BFEF-644E-420D-845E-0481717A44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3BC1-6E08-4779-AA21-8476A18270C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6953-297F-491E-88FF-99B4B7091F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E19D-1255-4A44-9C7A-63211E373D8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AFFC-0C7C-4DA4-954E-D9880650EEA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9FEE-1313-482E-BCD2-16F2FBA1A6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6B92-D64C-4585-BF16-5E811EE85D4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F28C-2669-4EB3-B741-953D3151928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5114-C18F-40DB-97FE-D2DADFD2814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4238-E4E9-4197-A3DA-FCEA0E18AC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Lu9Ycq64Gy4" TargetMode="External"/><Relationship Id="rId2" Type="http://schemas.openxmlformats.org/officeDocument/2006/relationships/hyperlink" Target="http://www.youtube.com/watch?v=lrXIQQ8PeRs"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image002"/>
          <p:cNvPicPr/>
          <p:nvPr/>
        </p:nvPicPr>
        <p:blipFill>
          <a:blip r:embed="rId1"/>
          <a:stretch/>
        </p:blipFill>
        <p:spPr>
          <a:xfrm>
            <a:off x="0" y="0"/>
            <a:ext cx="9144000" cy="6858000"/>
          </a:xfrm>
          <a:prstGeom prst="rect">
            <a:avLst/>
          </a:prstGeom>
          <a:ln w="0">
            <a:noFill/>
          </a:ln>
        </p:spPr>
      </p:pic>
      <p:sp>
        <p:nvSpPr>
          <p:cNvPr id="614" name="PlaceHolder 1"/>
          <p:cNvSpPr>
            <a:spLocks noGrp="1"/>
          </p:cNvSpPr>
          <p:nvPr>
            <p:ph type="subTitle"/>
          </p:nvPr>
        </p:nvSpPr>
        <p:spPr>
          <a:xfrm>
            <a:off x="1295280" y="5486040"/>
            <a:ext cx="6400800" cy="10666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Georgia"/>
              </a:rPr>
              <a:t>	</a:t>
            </a:r>
            <a:endParaRPr b="0" lang="en-US" sz="3600" spc="-1" strike="noStrike">
              <a:solidFill>
                <a:srgbClr val="000000"/>
              </a:solidFill>
              <a:latin typeface="Georgia"/>
            </a:endParaRPr>
          </a:p>
        </p:txBody>
      </p:sp>
      <p:sp>
        <p:nvSpPr>
          <p:cNvPr id="615" name="PlaceHolder 2"/>
          <p:cNvSpPr>
            <a:spLocks noGrp="1"/>
          </p:cNvSpPr>
          <p:nvPr>
            <p:ph type="title"/>
          </p:nvPr>
        </p:nvSpPr>
        <p:spPr>
          <a:xfrm>
            <a:off x="76212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6349"/>
                </a:solidFill>
                <a:latin typeface="Georgia"/>
              </a:rPr>
              <a:t>Existentialism</a:t>
            </a:r>
            <a:endParaRPr b="0" lang="en-US" sz="4800" spc="-1" strike="noStrike">
              <a:solidFill>
                <a:srgbClr val="7b9899"/>
              </a:solidFill>
              <a:latin typeface="Georgia"/>
            </a:endParaRPr>
          </a:p>
        </p:txBody>
      </p:sp>
      <p:sp>
        <p:nvSpPr>
          <p:cNvPr id="616" name="TextBox 1"/>
          <p:cNvSpPr/>
          <p:nvPr/>
        </p:nvSpPr>
        <p:spPr>
          <a:xfrm>
            <a:off x="298440" y="45720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istentialism became identified with a cultural movement that flourished in Europe in the 1940s and 1950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Dread and Anxiety</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This is the general notion that we are guided to make certain choices by a general feeling of apprehension, which is called dread.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1. Our dread will guide us in making choices that are morally justifiable by us. It is a calling for each of us to make a commitment to a personally valid way of life.</a:t>
            </a: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639" name="Picture 1" descr=""/>
          <p:cNvPicPr/>
          <p:nvPr/>
        </p:nvPicPr>
        <p:blipFill>
          <a:blip r:embed="rId1"/>
          <a:stretch/>
        </p:blipFill>
        <p:spPr>
          <a:xfrm>
            <a:off x="2819520" y="435780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685800" y="533160"/>
            <a:ext cx="7772400" cy="5562360"/>
          </a:xfrm>
          <a:prstGeom prst="rect">
            <a:avLst/>
          </a:prstGeom>
          <a:noFill/>
          <a:ln w="0">
            <a:noFill/>
          </a:ln>
        </p:spPr>
        <p:txBody>
          <a:bodyPr anchor="t">
            <a:normAutofit fontScale="89000"/>
          </a:bodyPr>
          <a:p>
            <a:pPr marL="242640" indent="-24264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2. Along with dread, we also have anxiety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about the choices that we make. We</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realize that at any moment in time, we</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have total freedom of choice. Since there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are so many options open, we will feel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anxiety about the things that we do. It keeps us on our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toes, so to speak, in reference to the moral certainty of the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choices that we make.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2640" indent="-24264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Through choice and commitment, we will look at how a character goes about justifying the decisions that he/she makes and how that forms his/her own unique essence.</a:t>
            </a:r>
            <a:r>
              <a:rPr b="0" lang="en-US" sz="2400" spc="-1" strike="noStrike">
                <a:solidFill>
                  <a:srgbClr val="000000"/>
                </a:solidFill>
                <a:latin typeface="Californian FB"/>
              </a:rPr>
              <a:t> </a:t>
            </a:r>
            <a:endParaRPr b="0" lang="en-US" sz="2400" spc="-1" strike="noStrike">
              <a:solidFill>
                <a:srgbClr val="000000"/>
              </a:solidFill>
              <a:latin typeface="Georgia"/>
            </a:endParaRPr>
          </a:p>
        </p:txBody>
      </p:sp>
      <p:pic>
        <p:nvPicPr>
          <p:cNvPr id="641" name="Picture 1" descr=""/>
          <p:cNvPicPr/>
          <p:nvPr/>
        </p:nvPicPr>
        <p:blipFill>
          <a:blip r:embed="rId1"/>
          <a:stretch/>
        </p:blipFill>
        <p:spPr>
          <a:xfrm>
            <a:off x="6324480" y="990720"/>
            <a:ext cx="266724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Absurdity</a:t>
            </a:r>
            <a:endParaRPr b="0" lang="en-US" sz="3300" spc="-1" strike="noStrike">
              <a:solidFill>
                <a:srgbClr val="7b9899"/>
              </a:solidFill>
              <a:latin typeface="Georgia"/>
            </a:endParaRPr>
          </a:p>
        </p:txBody>
      </p:sp>
      <p:sp>
        <p:nvSpPr>
          <p:cNvPr id="643" name=""/>
          <p:cNvSpPr txBox="1"/>
          <p:nvPr/>
        </p:nvSpPr>
        <p:spPr>
          <a:xfrm>
            <a:off x="685800" y="1600200"/>
            <a:ext cx="7772400" cy="4495680"/>
          </a:xfrm>
          <a:prstGeom prst="rect">
            <a:avLst/>
          </a:prstGeom>
          <a:noFill/>
          <a:ln w="0">
            <a:noFill/>
          </a:ln>
        </p:spPr>
        <p:txBody>
          <a:bodyPr anchor="t">
            <a:normAutofit fontScale="93000"/>
          </a:bodyPr>
          <a:p>
            <a:pPr marL="253440" indent="-2534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Anxiety will lead us to a realization that many existentialists have called the ABSURD. </a:t>
            </a:r>
            <a:endParaRPr b="0" lang="en-US" sz="2800" spc="-1" strike="noStrike">
              <a:solidFill>
                <a:srgbClr val="000000"/>
              </a:solidFill>
              <a:latin typeface="Georgia"/>
            </a:endParaRPr>
          </a:p>
          <a:p>
            <a:pPr marL="253440" indent="-2534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1. Basically, we must, at some time, confront nothingness and realize the impossibility of finding ultimate justification for the choices that we must make. So we fret and fumble about the choices we make by our feelings of dread and anxiety, but in all reality our existence is so infinitely small in the scope of the whole universe that it really doesn’t matter.</a:t>
            </a:r>
            <a:r>
              <a:rPr b="0" lang="en-US" sz="2800" spc="-1" strike="noStrike">
                <a:solidFill>
                  <a:srgbClr val="000000"/>
                </a:solidFill>
                <a:latin typeface="Tahoma"/>
                <a:ea typeface="Tahom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685800" y="456840"/>
            <a:ext cx="7772400" cy="563868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2. It is absurd to think that we were put on this planet to make these choices that cannot be justified by anyone or anything. Humans have constructed justification systems (general goodwill toward man, not breaking the law, etc.) but in all reality, these are futile efforts to establish truth with no real justification.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fornian FB"/>
                <a:ea typeface="Tahoma"/>
              </a:rPr>
              <a:t>I am my own existence, but this existence is absurd. Each of us is simply here, thrown into this time and place--but why now? Why here?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fornian FB"/>
                <a:ea typeface="Tahoma"/>
              </a:rPr>
              <a:t>Human beings require a rational basis for their lives but are unable to achieve one, and thus human life is a “futile pa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685800" y="456840"/>
            <a:ext cx="7772400" cy="533412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Through the idea of absurdity, we will look at how a character attempts to justify his/her own existence. If human existence is a futile passion, what has a certain character done to try to establish a concrete reason for existing? How does the idea of the absurd construct our view of a character?</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6" name="Picture 1" descr=""/>
          <p:cNvPicPr/>
          <p:nvPr/>
        </p:nvPicPr>
        <p:blipFill>
          <a:blip r:embed="rId1"/>
          <a:stretch/>
        </p:blipFill>
        <p:spPr>
          <a:xfrm>
            <a:off x="2362320" y="3124080"/>
            <a:ext cx="441936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Alienation</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	</a:t>
            </a:r>
            <a:r>
              <a:rPr b="0" lang="en-US" sz="2700" spc="-1" strike="noStrike">
                <a:solidFill>
                  <a:srgbClr val="000000"/>
                </a:solidFill>
                <a:latin typeface="Californian FB"/>
                <a:ea typeface="Tahoma"/>
              </a:rPr>
              <a:t>1. If we are to find our own unique vocation in life, then we must alienate those around us, or see them as otherness.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	</a:t>
            </a:r>
            <a:r>
              <a:rPr b="0" lang="en-US" sz="2700" spc="-1" strike="noStrike">
                <a:solidFill>
                  <a:srgbClr val="000000"/>
                </a:solidFill>
                <a:latin typeface="Californian FB"/>
                <a:ea typeface="Tahoma"/>
              </a:rPr>
              <a:t>2. We have sought to justify our existence through a world of material possessions that has served to alienate us from finding our true selves, and therefore, from nature and each other.</a:t>
            </a:r>
            <a:r>
              <a:rPr b="0" lang="en-US" sz="2700" spc="-1" strike="noStrike">
                <a:solidFill>
                  <a:srgbClr val="000000"/>
                </a:solidFill>
                <a:latin typeface="Tahoma"/>
                <a:ea typeface="Tahoma"/>
              </a:rPr>
              <a:t> </a:t>
            </a:r>
            <a:endParaRPr b="0" lang="en-US" sz="2700" spc="-1" strike="noStrike">
              <a:solidFill>
                <a:srgbClr val="000000"/>
              </a:solidFill>
              <a:latin typeface="Georgia"/>
            </a:endParaRPr>
          </a:p>
        </p:txBody>
      </p:sp>
      <p:pic>
        <p:nvPicPr>
          <p:cNvPr id="649" name="Picture 1" descr=""/>
          <p:cNvPicPr/>
          <p:nvPr/>
        </p:nvPicPr>
        <p:blipFill>
          <a:blip r:embed="rId1"/>
          <a:stretch/>
        </p:blipFill>
        <p:spPr>
          <a:xfrm>
            <a:off x="1143000" y="4514760"/>
            <a:ext cx="2895480" cy="1743120"/>
          </a:xfrm>
          <a:prstGeom prst="rect">
            <a:avLst/>
          </a:prstGeom>
          <a:ln w="0">
            <a:noFill/>
          </a:ln>
        </p:spPr>
      </p:pic>
      <p:pic>
        <p:nvPicPr>
          <p:cNvPr id="650" name="Picture 2" descr=""/>
          <p:cNvPicPr/>
          <p:nvPr/>
        </p:nvPicPr>
        <p:blipFill>
          <a:blip r:embed="rId2"/>
          <a:stretch/>
        </p:blipFill>
        <p:spPr>
          <a:xfrm>
            <a:off x="4952880" y="4511520"/>
            <a:ext cx="2971800" cy="174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685800" y="456840"/>
            <a:ext cx="7772400" cy="563868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3. Even if we seek to alienate ourselves from the social system, a world of material possessions and bureaucracies, we do not know that are desires are system-determined and system-determining. We are alienated because we are a paradox. We are defined in reference to a system that we seek to avoid. Even people that try to be unique are still adhering to the social system that has guided their life up to the point that they made the choice to “be different.”</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 </a:t>
            </a:r>
            <a:endParaRPr b="0" lang="en-US" sz="2700" spc="-1" strike="noStrike">
              <a:solidFill>
                <a:srgbClr val="000000"/>
              </a:solidFill>
              <a:latin typeface="Georgia"/>
            </a:endParaRPr>
          </a:p>
        </p:txBody>
      </p:sp>
      <p:pic>
        <p:nvPicPr>
          <p:cNvPr id="652" name="Picture 1" descr=""/>
          <p:cNvPicPr/>
          <p:nvPr/>
        </p:nvPicPr>
        <p:blipFill>
          <a:blip r:embed="rId1"/>
          <a:stretch/>
        </p:blipFill>
        <p:spPr>
          <a:xfrm>
            <a:off x="3200400" y="39625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685800" y="609480"/>
            <a:ext cx="7772400" cy="54864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Some questions to ponder as we read Existentialist work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How has a character tried to alienate himself/herself from the social system? Has a character really and truly made a choice that allows him/her a unique vocation in life? How does the alienation from self, society, and nature affect an individual’s choices?</a:t>
            </a: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Myth of Sisyphus</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bert Camus wrote an essay called The Myth of Sisyphus, where Camus claims that Sisyphus is the ideal absurd hero and that his punishment is representative of the human condition: Sisyphus must struggle perpetually and without hope of success. So long as he accepts that there is nothing more to life than this absurd struggle, then he can find happiness in it, says Camu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t’s read the essa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685800" y="456840"/>
            <a:ext cx="7772400" cy="5638680"/>
          </a:xfrm>
          <a:prstGeom prst="rect">
            <a:avLst/>
          </a:prstGeom>
          <a:noFill/>
          <a:ln w="0">
            <a:noFill/>
          </a:ln>
        </p:spPr>
        <p:txBody>
          <a:bodyPr anchor="t">
            <a:normAutofit/>
          </a:bodyPr>
          <a:p>
            <a:pPr marL="272880" indent="-2728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Before we begin exploring Existentialism in literature, let’s practice with songs.  Listen to, watch, and read the lyrics of “Subdivisions” by Rush and “If Today Was Your Last Day” by Nickleback.  How are the existential concepts of social norms and alienation captured in the song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Californian FB"/>
                <a:hlinkClick r:id="rId1"/>
              </a:rPr>
              <a:t>http://www.youtube.com/watch?v=Lu9Ycq64Gy4</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Californian FB"/>
                <a:hlinkClick r:id="rId2"/>
              </a:rPr>
              <a:t>http://www.youtube.com/watch?v=lrXIQQ8Pe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9240"/>
            <a:ext cx="7772400" cy="173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fornian FB"/>
              </a:rPr>
              <a:t>There are several versions of existentialism, so we will concentrate on six main points</a:t>
            </a:r>
            <a:endParaRPr b="0" lang="en-US" sz="3600" spc="-1" strike="noStrike">
              <a:solidFill>
                <a:srgbClr val="7b9899"/>
              </a:solidFill>
              <a:latin typeface="Georgia"/>
            </a:endParaRPr>
          </a:p>
        </p:txBody>
      </p:sp>
      <p:sp>
        <p:nvSpPr>
          <p:cNvPr id="618" name=""/>
          <p:cNvSpPr txBox="1"/>
          <p:nvPr/>
        </p:nvSpPr>
        <p:spPr>
          <a:xfrm>
            <a:off x="456840" y="1905120"/>
            <a:ext cx="8381880" cy="3581280"/>
          </a:xfrm>
          <a:prstGeom prst="rect">
            <a:avLst/>
          </a:prstGeom>
          <a:noFill/>
          <a:ln w="0">
            <a:noFill/>
          </a:ln>
        </p:spPr>
        <p:txBody>
          <a:bodyPr anchor="t">
            <a:normAutofit fontScale="91000"/>
          </a:bodyPr>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Individual Essence</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Subjectivity</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Choice and Commitment</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Dread and Anxiety</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Absurdity</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Alienation</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The main focus of Existentialism in on the Individu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at Now?</a:t>
            </a:r>
            <a:endParaRPr b="0" lang="en-US" sz="33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Since we have gone over the basics of Existentialism, it is now important for us to look for existentialism in regard to Camus’ </a:t>
            </a:r>
            <a:r>
              <a:rPr b="0" i="1" lang="en-US" sz="2000" spc="-1" strike="noStrike">
                <a:solidFill>
                  <a:srgbClr val="000000"/>
                </a:solidFill>
                <a:latin typeface="Californian FB"/>
              </a:rPr>
              <a:t>The Stranger. </a:t>
            </a:r>
            <a:r>
              <a:rPr b="0" lang="en-US" sz="2000" spc="-1" strike="noStrike">
                <a:solidFill>
                  <a:srgbClr val="000000"/>
                </a:solidFill>
                <a:latin typeface="Californian FB"/>
              </a:rPr>
              <a:t>Go through each point of existentialism as the literature is read and ascertain how existentialism can explain what  Camus is trying to say.</a:t>
            </a:r>
            <a:endParaRPr b="0" lang="en-US" sz="2000" spc="-1" strike="noStrike">
              <a:solidFill>
                <a:srgbClr val="000000"/>
              </a:solidFill>
              <a:latin typeface="Georgia"/>
            </a:endParaRPr>
          </a:p>
        </p:txBody>
      </p:sp>
      <p:pic>
        <p:nvPicPr>
          <p:cNvPr id="659" name="Picture 1" descr=""/>
          <p:cNvPicPr/>
          <p:nvPr/>
        </p:nvPicPr>
        <p:blipFill>
          <a:blip r:embed="rId1"/>
          <a:stretch/>
        </p:blipFill>
        <p:spPr>
          <a:xfrm>
            <a:off x="3352680" y="3468600"/>
            <a:ext cx="1685880" cy="2362320"/>
          </a:xfrm>
          <a:prstGeom prst="rect">
            <a:avLst/>
          </a:prstGeom>
          <a:ln w="0">
            <a:noFill/>
          </a:ln>
        </p:spPr>
      </p:pic>
      <p:pic>
        <p:nvPicPr>
          <p:cNvPr id="660" name="Picture 2" descr=""/>
          <p:cNvPicPr/>
          <p:nvPr/>
        </p:nvPicPr>
        <p:blipFill>
          <a:blip r:embed="rId2"/>
          <a:stretch/>
        </p:blipFill>
        <p:spPr>
          <a:xfrm>
            <a:off x="2895480" y="3276720"/>
            <a:ext cx="2971800" cy="27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Individual Existence</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1. Many philosophers outside of Existentialism have declared that the highest ethical good is the same for everyone. As one seeks to achieve moral perfection, they resemble other persons seeking moral perfection.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Existentialists reject this and say that the </a:t>
            </a:r>
            <a:r>
              <a:rPr b="1" lang="en-US" sz="2400" spc="-1" strike="noStrike">
                <a:solidFill>
                  <a:srgbClr val="000000"/>
                </a:solidFill>
                <a:latin typeface="Californian FB"/>
                <a:ea typeface="Tahoma"/>
              </a:rPr>
              <a:t>highest good for people is to find their own unique vocation. The herd thinking of copying other “morally good” individuals is just an illusion of happiness.</a:t>
            </a:r>
            <a:r>
              <a:rPr b="0" lang="en-US" sz="2400" spc="-1" strike="noStrike">
                <a:solidFill>
                  <a:srgbClr val="000000"/>
                </a:solidFill>
                <a:latin typeface="Californian FB"/>
                <a:ea typeface="Tahoma"/>
              </a:rPr>
              <a:t> Do we really know something to be right or wrong? What if the things we are doing are really quite the opposite of what we think?</a:t>
            </a:r>
            <a:endParaRPr b="0" lang="en-US" sz="2400" spc="-1" strike="noStrike">
              <a:solidFill>
                <a:srgbClr val="000000"/>
              </a:solidFill>
              <a:latin typeface="Georgia"/>
            </a:endParaRPr>
          </a:p>
        </p:txBody>
      </p:sp>
      <p:pic>
        <p:nvPicPr>
          <p:cNvPr id="621" name="Picture 1" descr=""/>
          <p:cNvPicPr/>
          <p:nvPr/>
        </p:nvPicPr>
        <p:blipFill>
          <a:blip r:embed="rId1"/>
          <a:stretch/>
        </p:blipFill>
        <p:spPr>
          <a:xfrm>
            <a:off x="2743200" y="4952880"/>
            <a:ext cx="2629080" cy="17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685800" y="456840"/>
            <a:ext cx="7315200" cy="5638680"/>
          </a:xfrm>
          <a:prstGeom prst="rect">
            <a:avLst/>
          </a:prstGeom>
          <a:noFill/>
          <a:ln w="0">
            <a:noFill/>
          </a:ln>
        </p:spPr>
        <p:txBody>
          <a:bodyPr anchor="t">
            <a:normAutofit fontScale="96000"/>
          </a:bodyPr>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2. Existentialists believe that </a:t>
            </a:r>
            <a:r>
              <a:rPr b="1" lang="en-US" sz="2400" spc="-1" strike="noStrike">
                <a:solidFill>
                  <a:srgbClr val="000000"/>
                </a:solidFill>
                <a:latin typeface="Californian FB"/>
                <a:ea typeface="Tahoma"/>
              </a:rPr>
              <a:t>one must choose one’s own way without the aid of universal, objective standards. </a:t>
            </a:r>
            <a:r>
              <a:rPr b="0" lang="en-US" sz="2400" spc="-1" strike="noStrike">
                <a:solidFill>
                  <a:srgbClr val="000000"/>
                </a:solidFill>
                <a:latin typeface="Californian FB"/>
                <a:ea typeface="Tahoma"/>
              </a:rPr>
              <a:t>Against the traditional view that moral choice involves an objective view of right and wrong, existentialists argue that </a:t>
            </a:r>
            <a:r>
              <a:rPr b="1" lang="en-US" sz="2400" spc="-1" strike="noStrike">
                <a:solidFill>
                  <a:srgbClr val="000000"/>
                </a:solidFill>
                <a:latin typeface="Californian FB"/>
                <a:ea typeface="Tahoma"/>
              </a:rPr>
              <a:t>no rational, objective basis can be found for moral decisions.</a:t>
            </a:r>
            <a:endParaRPr b="0" lang="en-US" sz="2400" spc="-1" strike="noStrike">
              <a:solidFill>
                <a:srgbClr val="000000"/>
              </a:solidFill>
              <a:latin typeface="Georgia"/>
            </a:endParaRPr>
          </a:p>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a:t>
            </a:r>
            <a:r>
              <a:rPr b="1" lang="en-US" sz="2800" spc="-1" strike="noStrike">
                <a:solidFill>
                  <a:srgbClr val="000000"/>
                </a:solidFill>
                <a:latin typeface="Californian FB"/>
                <a:ea typeface="Tahoma"/>
              </a:rPr>
              <a:t>Existence precedes essence</a:t>
            </a:r>
            <a:r>
              <a:rPr b="0" lang="en-US" sz="2400" spc="-1" strike="noStrike">
                <a:solidFill>
                  <a:srgbClr val="000000"/>
                </a:solidFill>
                <a:latin typeface="Californian FB"/>
                <a:ea typeface="Tahoma"/>
              </a:rPr>
              <a:t>--we first exist and then we must find our own unique vocation that will become our essence. We cannot be confined by other societal constructs of happiness, as this would be our essence preceding our existence and limiting our </a:t>
            </a:r>
            <a:endParaRPr b="0" lang="en-US" sz="2400" spc="-1" strike="noStrike">
              <a:solidFill>
                <a:srgbClr val="000000"/>
              </a:solidFill>
              <a:latin typeface="Georgia"/>
            </a:endParaRPr>
          </a:p>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own individual freedom to independently exist.</a:t>
            </a:r>
            <a:endParaRPr b="0" lang="en-US" sz="2400" spc="-1" strike="noStrike">
              <a:solidFill>
                <a:srgbClr val="000000"/>
              </a:solidFill>
              <a:latin typeface="Georgia"/>
            </a:endParaRPr>
          </a:p>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EXAMPLES?????</a:t>
            </a:r>
            <a:endParaRPr b="0" lang="en-US" sz="2400" spc="-1" strike="noStrike">
              <a:solidFill>
                <a:srgbClr val="000000"/>
              </a:solidFill>
              <a:latin typeface="Georg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23" name="Picture 1" descr=""/>
          <p:cNvPicPr/>
          <p:nvPr/>
        </p:nvPicPr>
        <p:blipFill>
          <a:blip r:embed="rId1"/>
          <a:stretch/>
        </p:blipFill>
        <p:spPr>
          <a:xfrm>
            <a:off x="7296120" y="4243320"/>
            <a:ext cx="184788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Subjectivity</a:t>
            </a:r>
            <a:endParaRPr b="0" lang="en-US" sz="3300" spc="-1" strike="noStrike">
              <a:solidFill>
                <a:srgbClr val="7b9899"/>
              </a:solidFill>
              <a:latin typeface="Georgia"/>
            </a:endParaRPr>
          </a:p>
        </p:txBody>
      </p:sp>
      <p:sp>
        <p:nvSpPr>
          <p:cNvPr id="625" name=""/>
          <p:cNvSpPr txBox="1"/>
          <p:nvPr/>
        </p:nvSpPr>
        <p:spPr>
          <a:xfrm>
            <a:off x="685800" y="1600200"/>
            <a:ext cx="7772400" cy="4495680"/>
          </a:xfrm>
          <a:prstGeom prst="rect">
            <a:avLst/>
          </a:prstGeom>
          <a:noFill/>
          <a:ln w="0">
            <a:noFill/>
          </a:ln>
        </p:spPr>
        <p:txBody>
          <a:bodyPr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The importance of passionate individual action in deciding questions of both morality and truth.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1. In reference to the above issue of moral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choice, </a:t>
            </a:r>
            <a:r>
              <a:rPr b="1" lang="en-US" sz="2400" spc="-1" strike="noStrike">
                <a:solidFill>
                  <a:srgbClr val="000000"/>
                </a:solidFill>
                <a:latin typeface="Californian FB"/>
                <a:ea typeface="Tahoma"/>
              </a:rPr>
              <a:t>existentialists argue that personal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ea typeface="Tahoma"/>
              </a:rPr>
              <a:t>    </a:t>
            </a:r>
            <a:r>
              <a:rPr b="1" lang="en-US" sz="2400" spc="-1" strike="noStrike">
                <a:solidFill>
                  <a:srgbClr val="000000"/>
                </a:solidFill>
                <a:latin typeface="Californian FB"/>
                <a:ea typeface="Tahoma"/>
              </a:rPr>
              <a:t>experience and acting on one’s own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ea typeface="Tahoma"/>
              </a:rPr>
              <a:t>    </a:t>
            </a:r>
            <a:r>
              <a:rPr b="1" lang="en-US" sz="2400" spc="-1" strike="noStrike">
                <a:solidFill>
                  <a:srgbClr val="000000"/>
                </a:solidFill>
                <a:latin typeface="Californian FB"/>
                <a:ea typeface="Tahoma"/>
              </a:rPr>
              <a:t>convictions are essential in arriving at the truth.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2. The understanding of a situation by someone involved in that situation is superior to that of a detached, objective observer. They argue that the </a:t>
            </a:r>
            <a:r>
              <a:rPr b="1" lang="en-US" sz="2400" spc="-1" strike="noStrike">
                <a:solidFill>
                  <a:srgbClr val="000000"/>
                </a:solidFill>
                <a:latin typeface="Californian FB"/>
                <a:ea typeface="Tahoma"/>
              </a:rPr>
              <a:t>most important questions in life are not accessible to reason or science.</a:t>
            </a:r>
            <a:r>
              <a:rPr b="1" lang="en-US" sz="2400" spc="-1" strike="noStrike">
                <a:solidFill>
                  <a:srgbClr val="000000"/>
                </a:solidFill>
                <a:latin typeface="Californian FB"/>
              </a:rPr>
              <a:t> </a:t>
            </a:r>
            <a:endParaRPr b="0" lang="en-US" sz="2400" spc="-1" strike="noStrike">
              <a:solidFill>
                <a:srgbClr val="000000"/>
              </a:solidFill>
              <a:latin typeface="Georgia"/>
            </a:endParaRPr>
          </a:p>
        </p:txBody>
      </p:sp>
      <p:pic>
        <p:nvPicPr>
          <p:cNvPr id="626" name="Picture 1" descr=""/>
          <p:cNvPicPr/>
          <p:nvPr/>
        </p:nvPicPr>
        <p:blipFill>
          <a:blip r:embed="rId1"/>
          <a:stretch/>
        </p:blipFill>
        <p:spPr>
          <a:xfrm>
            <a:off x="6553080" y="1981080"/>
            <a:ext cx="195264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685800" y="533160"/>
            <a:ext cx="7772400" cy="5562360"/>
          </a:xfrm>
          <a:prstGeom prst="rect">
            <a:avLst/>
          </a:prstGeom>
          <a:noFill/>
          <a:ln w="0">
            <a:noFill/>
          </a:ln>
        </p:spPr>
        <p:txBody>
          <a:bodyPr anchor="t">
            <a:normAutofit fontScale="93000"/>
          </a:bodyPr>
          <a:p>
            <a:pPr marL="253440" indent="-25344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3. Existentialists go so far as to say that science is not as rational as is commonly supposed. They assert that the scientific assumption of an orderly universe is for the most part a useful fiction.</a:t>
            </a:r>
            <a:endParaRPr b="0" lang="en-US" sz="2800" spc="-1" strike="noStrike">
              <a:solidFill>
                <a:srgbClr val="000000"/>
              </a:solidFill>
              <a:latin typeface="Georgia"/>
            </a:endParaRPr>
          </a:p>
          <a:p>
            <a:pPr marL="253440" indent="-253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53440" indent="-25344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a:t>
            </a:r>
            <a:r>
              <a:rPr b="1" lang="en-US" sz="2800" spc="-1" strike="noStrike">
                <a:solidFill>
                  <a:srgbClr val="000000"/>
                </a:solidFill>
                <a:latin typeface="Californian FB"/>
                <a:ea typeface="Tahoma"/>
              </a:rPr>
              <a:t>Truth is unique for each individual, and it is important to use one’s personal experiences to arrive at truth. Objectivity is a futile passion.</a:t>
            </a:r>
            <a:r>
              <a:rPr b="1" lang="en-US" sz="2700" spc="-1" strike="noStrike">
                <a:solidFill>
                  <a:srgbClr val="000000"/>
                </a:solidFill>
                <a:latin typeface="Californian FB"/>
              </a:rPr>
              <a:t> </a:t>
            </a:r>
            <a:endParaRPr b="0" lang="en-US" sz="2700" spc="-1" strike="noStrike">
              <a:solidFill>
                <a:srgbClr val="000000"/>
              </a:solidFill>
              <a:latin typeface="Georgia"/>
            </a:endParaRPr>
          </a:p>
          <a:p>
            <a:pPr marL="253440" indent="-25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EXAMPLES?????</a:t>
            </a:r>
            <a:endParaRPr b="0" lang="en-US" sz="2700" spc="-1" strike="noStrike">
              <a:solidFill>
                <a:srgbClr val="000000"/>
              </a:solidFill>
              <a:latin typeface="Georgia"/>
            </a:endParaRPr>
          </a:p>
        </p:txBody>
      </p:sp>
      <p:pic>
        <p:nvPicPr>
          <p:cNvPr id="628" name="Picture 1" descr=""/>
          <p:cNvPicPr/>
          <p:nvPr/>
        </p:nvPicPr>
        <p:blipFill>
          <a:blip r:embed="rId1"/>
          <a:stretch/>
        </p:blipFill>
        <p:spPr>
          <a:xfrm>
            <a:off x="5707080" y="3962520"/>
            <a:ext cx="2238480" cy="20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Choice and Commitment</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Humanity’s primary distinction is the freedom to choose. Human beings do not have a fixed nature, or essence, as other animals and plants do; each human being makes choices that create his or her own nature.</a:t>
            </a:r>
            <a:endParaRPr b="0" lang="en-US" sz="2700" spc="-1" strike="noStrike">
              <a:solidFill>
                <a:srgbClr val="000000"/>
              </a:solidFill>
              <a:latin typeface="Georgia"/>
            </a:endParaRPr>
          </a:p>
        </p:txBody>
      </p:sp>
      <p:pic>
        <p:nvPicPr>
          <p:cNvPr id="631" name="Picture 1" descr=""/>
          <p:cNvPicPr/>
          <p:nvPr/>
        </p:nvPicPr>
        <p:blipFill>
          <a:blip r:embed="rId1"/>
          <a:stretch/>
        </p:blipFill>
        <p:spPr>
          <a:xfrm>
            <a:off x="2286000" y="3352680"/>
            <a:ext cx="434340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685800" y="456840"/>
            <a:ext cx="7772400" cy="5638680"/>
          </a:xfrm>
          <a:prstGeom prst="rect">
            <a:avLst/>
          </a:prstGeom>
          <a:noFill/>
          <a:ln w="0">
            <a:noFill/>
          </a:ln>
        </p:spPr>
        <p:txBody>
          <a:bodyPr anchor="t">
            <a:normAutofit fontScale="97000"/>
          </a:bodyPr>
          <a:p>
            <a:pPr marL="264600" indent="-2646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Choice is central to human existence. It makes us unique from other life forms on earth. It is inescapable, even the refusal to choose is a choice. Freedom of choice, therefore, entails commitment and responsibility. </a:t>
            </a:r>
            <a:endParaRPr b="0" lang="en-US" sz="2400" spc="-1" strike="noStrike">
              <a:solidFill>
                <a:srgbClr val="000000"/>
              </a:solidFill>
              <a:latin typeface="Georg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64600" indent="-2646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fornian FB"/>
                <a:ea typeface="Tahoma"/>
              </a:rPr>
              <a:t>“</a:t>
            </a:r>
            <a:r>
              <a:rPr b="1" i="1" lang="en-US" sz="2400" spc="-1" strike="noStrike">
                <a:solidFill>
                  <a:srgbClr val="000000"/>
                </a:solidFill>
                <a:latin typeface="Californian FB"/>
                <a:ea typeface="Tahoma"/>
              </a:rPr>
              <a:t>Man is condemned to be free</a:t>
            </a:r>
            <a:r>
              <a:rPr b="0" i="1" lang="en-US" sz="2400" spc="-1" strike="noStrike">
                <a:solidFill>
                  <a:srgbClr val="000000"/>
                </a:solidFill>
                <a:latin typeface="Californian FB"/>
                <a:ea typeface="Tahoma"/>
              </a:rPr>
              <a:t>” quotation. </a:t>
            </a:r>
            <a:r>
              <a:rPr b="0" lang="en-US" sz="2400" spc="-1" strike="noStrike">
                <a:solidFill>
                  <a:srgbClr val="000000"/>
                </a:solidFill>
                <a:latin typeface="Californian FB"/>
                <a:ea typeface="Tahoma"/>
              </a:rPr>
              <a:t>Because individuals are free to choose their own path (</a:t>
            </a:r>
            <a:r>
              <a:rPr b="1" i="1" lang="en-US" sz="2400" spc="-1" strike="noStrike" u="sng">
                <a:solidFill>
                  <a:srgbClr val="000000"/>
                </a:solidFill>
                <a:uFillTx/>
                <a:latin typeface="Californian FB"/>
                <a:ea typeface="Tahoma"/>
              </a:rPr>
              <a:t>FREE WILL</a:t>
            </a:r>
            <a:r>
              <a:rPr b="0" lang="en-US" sz="2400" spc="-1" strike="noStrike">
                <a:solidFill>
                  <a:srgbClr val="000000"/>
                </a:solidFill>
                <a:latin typeface="Californian FB"/>
                <a:ea typeface="Tahoma"/>
              </a:rPr>
              <a:t>), they must accept the risk and responsibility of following their commitment wherever it leads.</a:t>
            </a:r>
            <a:br>
              <a:rPr sz="2400"/>
            </a:br>
            <a:r>
              <a:rPr b="0" lang="en-US" sz="2400" spc="-1" strike="noStrike">
                <a:solidFill>
                  <a:srgbClr val="000000"/>
                </a:solidFill>
                <a:latin typeface="Californian FB"/>
              </a:rPr>
              <a:t> </a:t>
            </a:r>
            <a:endParaRPr b="0" lang="en-US" sz="2400" spc="-1" strike="noStrike">
              <a:solidFill>
                <a:srgbClr val="000000"/>
              </a:solidFill>
              <a:latin typeface="Georgia"/>
            </a:endParaRPr>
          </a:p>
          <a:p>
            <a:pPr marL="264600" indent="-2646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We must look at a character’s choices and see that they are committed to the responsibility of those choices. How does a character’s choices form their own essen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CAP</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istence                                     </a:t>
            </a:r>
            <a:r>
              <a:rPr b="0" lang="en-US" sz="2800" spc="-1" strike="noStrike">
                <a:solidFill>
                  <a:srgbClr val="000000"/>
                </a:solidFill>
                <a:latin typeface="Georgia"/>
              </a:rPr>
              <a:t>	</a:t>
            </a:r>
            <a:r>
              <a:rPr b="0" lang="en-US" sz="2800" spc="-1" strike="noStrike">
                <a:solidFill>
                  <a:srgbClr val="000000"/>
                </a:solidFill>
                <a:latin typeface="Georgia"/>
              </a:rPr>
              <a:t>      Essence</a:t>
            </a:r>
            <a:endParaRPr b="0" lang="en-US" sz="2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bjectivity – </a:t>
            </a:r>
            <a:r>
              <a:rPr b="0" lang="en-US" sz="1800" spc="-1" strike="noStrike" u="sng">
                <a:solidFill>
                  <a:srgbClr val="000000"/>
                </a:solidFill>
                <a:uFillTx/>
                <a:latin typeface="Georgia"/>
              </a:rPr>
              <a:t>we must subjectively decide to find an esse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s essence/end goal must be personally valid for the individual.</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oice – We must make choices that help us to find our essence and keep us on the right path.</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itment – if we do not commit to these choices, then we will never find our unique vocation (individual esse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we do commit to these choices, we will eventually find the unique essence that we have determined to be personally vali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5" name="Line 4"/>
          <p:cNvSpPr/>
          <p:nvPr/>
        </p:nvSpPr>
        <p:spPr>
          <a:xfrm>
            <a:off x="2743200" y="22860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Picture 1" descr=""/>
          <p:cNvPicPr/>
          <p:nvPr/>
        </p:nvPicPr>
        <p:blipFill>
          <a:blip r:embed="rId1"/>
          <a:stretch/>
        </p:blipFill>
        <p:spPr>
          <a:xfrm>
            <a:off x="2286000" y="4495680"/>
            <a:ext cx="419112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4:20:28Z</dcterms:created>
  <dc:creator>UNIT5</dc:creator>
  <dc:description/>
  <dc:language>en-US</dc:language>
  <cp:lastModifiedBy>Suzanne Conti</cp:lastModifiedBy>
  <dcterms:modified xsi:type="dcterms:W3CDTF">2011-02-21T14:17:47Z</dcterms:modified>
  <cp:revision>22</cp:revision>
  <dc:subject/>
  <dc:title>Existentialism</dc:title>
</cp:coreProperties>
</file>